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3EF-B5FE-491F-8580-90DF5FFD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ED3-2035-4AE2-8EEB-B58FC44F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D39-9515-4D0B-90FB-3795CD27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66E-BE23-4AA6-A6F1-D048BE82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D343-11CB-4A98-862E-8D0992EF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6D6B-79D8-4253-BA58-425A0C45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0A57-BD47-4F5F-9A7A-482BDCB6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C7A9-8F6C-4604-B201-FC88973D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5A5-1770-4AB5-A3D3-3261F1E4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2786-6145-4960-A202-1ACB2790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A0D2-705D-448B-9742-F8204960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8F3-55C8-4758-9B31-4471DAF1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E61B-C4D1-4AAE-8ADB-52FAE30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02AD-0128-47CA-B7D1-08B532CF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4CA2-C874-4EDF-954A-FAC0FF42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B496-0949-4269-95C5-B6EA2EBD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EE20-419E-4CA0-A9E3-94275565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A4D-386A-47E3-AFD5-4F78FC5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A5E-81D2-4F13-AC88-D7BF2BE6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698-F9BC-49E3-A072-1AE355F7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FAB-2ADA-45AE-8EDC-3E3F3B5B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FF3-69D7-481B-992B-221F4C5E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17D-F279-41F9-9147-531B499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7B6-C76A-4894-B6E4-4399243C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9374-E8B9-4F3E-9E82-049E1C04153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EBE3-3FFD-4C4B-9787-5AEE442445A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Magnifico </a:t>
            </a: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Indio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Cas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52120" y="91404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: Sarah Jebashak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505640" cy="50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 Una Cocina</a:t>
            </a:r>
            <a:br>
              <a:rPr sz="40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Mi Cosina es bella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1838160"/>
            <a:ext cx="7315200" cy="4954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7920" y="282600"/>
            <a:ext cx="2652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l Cuatr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9840" y="8380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i Cuatro es estupend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010280" cy="5251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553080" y="509580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10800" y="487440"/>
            <a:ext cx="345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i Bañ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962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Baño es 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azu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 Comedo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Comedor es un  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relajant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14400" y="2398680"/>
            <a:ext cx="6610320" cy="4459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</a:t>
            </a: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Jardí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6080" y="1676520"/>
            <a:ext cx="547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jard</a:t>
            </a: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í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 es un magn</a:t>
            </a: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í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ic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6543720" cy="4675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Sal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sala es un 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espacios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09480" y="2303640"/>
            <a:ext cx="6858000" cy="4554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Pat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623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patio es un 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gra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14400" y="177804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Garaj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garaje es un fabulos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6476760" cy="4713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6:52Z</dcterms:created>
  <dc:creator>jebashakersar</dc:creator>
  <dc:description/>
  <dc:language>en-US</dc:language>
  <cp:lastModifiedBy>jebashakersar</cp:lastModifiedBy>
  <dcterms:modified xsi:type="dcterms:W3CDTF">2012-10-25T17:28:06Z</dcterms:modified>
  <cp:revision>7</cp:revision>
  <dc:subject/>
  <dc:title>Mi Magnifico Casa</dc:title>
</cp:coreProperties>
</file>